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6FA-7820-4B8F-95E4-6113D7AE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9DD-93B9-4AAC-9855-324B90DA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0B3-B26C-429E-B609-0B9F2A97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69F-1754-48A3-B80B-83A5DB2D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B212-9364-4B2D-A5C4-3BA7F91E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CDA1-287D-4F66-8B3D-317C4A38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591E-6576-43D0-BD71-935502B4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85D1-C697-4F6C-8FF0-C6BAF131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18B3-26D0-4871-83E2-D3AC448C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4D8D-4397-4B0B-997E-0BC652FD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A0EA-9EE3-4196-BF25-0AF5CED9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68A-686B-4B85-B6ED-665AF295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ABF0-E66C-462B-BE9D-F0CA7168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FC03-D60E-4948-81E8-C0230F08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09E5-1237-4A1F-B717-7FC962B7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6957-0EA1-4A4F-B9E9-95281031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0D1A-D75D-4A9D-A59D-D4364381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140-1546-45D2-9D39-30C84086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A16-9A7E-4F9C-85F3-65AFF411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DB1-BD19-4B16-9DAF-0C140B19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161-53A0-4EBC-B3E5-CA98C8F9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07E-3EB6-453F-974A-162FEF2F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0CB-FA67-4A50-BA52-A000DFEE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8F4-20A5-436D-BF80-30B8FB4F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59C4-8A0E-4B31-99A9-47A6B70046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BE9A-B3C2-4994-B171-99AF6BDBB3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FI Advisory Group meeting: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Financial crisis – Current view and preparation for Plenary session</a:t>
            </a:r>
            <a:br>
              <a:rPr sz="36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 Crisis: the regional outlook and fiscal space for crisi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rnard Funck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s in steel sector illustrate broader challeng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steel production is being cut significantly as price of hot rolled steel coil has fallen to almost $400 per ton, from near $1200 earlier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eel industry in exports and employment is sizeable in Macedonia (37% of exports), Serbia (25%), Montenegro and Albania (20%) and BiH (1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lready being cut in Albania and Macedonia, significant decrease in production announced in Albania, BiH and Mac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edonia most severely hit: production of metals (11% share in industrial output and employment) fell by 38% y-o-y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rkey, automotive industry is hurt badly from reduced demand (Turkey is net importer of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991720" cy="27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89917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5181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xed exchange rates in most economies, much of the burden of adjustment on fisc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92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mestic respons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n wage setting following rapid wage growth (real wage growth ranging from 5% per annum in BiH to 12% in Ser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ternal imbalances may correct only slowl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improvement of CAB (as % of GDP) only expected for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external financing needs (as % of GDP) are expected to increase or remain high in most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 of corporate (and banking) debt in Turkey adds to uncertainty on external financ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3621240"/>
          <a:ext cx="51814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621240"/>
                    <a:ext cx="51814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1600200"/>
          <a:ext cx="5181480" cy="213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00200"/>
                    <a:ext cx="51814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respond to the tightening of financial markets, policy makers need to take meas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aintain prudent fisc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engthen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ntries may seek to shift funding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l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private sources (including PPPs and lines of cred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fficial sources, including I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IBRD financing of South Africa’s power develop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urn to them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bt re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bt performances are expected to be mixed among the SEE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33440"/>
          <a:ext cx="7467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3440"/>
                    <a:ext cx="7467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3581280"/>
          <a:ext cx="7467480" cy="29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46748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Economic Developments in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ing vulnerabilities from th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ook and risks for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croeconomic trends improved in recent years throughout the reg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growth has been healthy: GDP grew by around 5% in 2000-06; growth peak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2007, all SEEs and Turkey had either reduced fiscal deficits or moved to surpluses, reflecting greater government commitment to fiscal responsibility (while decreasing tax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003 and 2007, public debt/GDP was cut in all countries except BiH, sometimes substantially (achieved through GDP growth, stronger policy efforts, real appreciation and prepayment of d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pressures have reemerged strongly in 2008 (e.g., Serbia, Macedonia, Tur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6972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vulnerabilities remain and new imbalances have emerg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E economies have one or more macroeconomic vulnera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648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ccount deficits worsened in all economies except BiH (which had high CAD) between 2003 and 2007 (1-3 percentage points in Albania, Croatia, Macedonia, Kosovo and Turkey, 9 pp in Serbia and 33 pp in Monteneg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merging vulnerabilities from the crisis and potential impa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and Turkey faced with three shocks as a result of the cri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) global demand slow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) drying up of external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i) falling commodit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remittances (Albania, BiH, Macedonia and Kosovo have substantial remittance infl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752480"/>
            <a:ext cx="136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$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136600"/>
          <a:ext cx="73911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6600"/>
                    <a:ext cx="73911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57400" y="1600200"/>
            <a:ext cx="472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 private debt and equity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-2007, projected 2008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752480"/>
            <a:ext cx="8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971800"/>
            <a:ext cx="2097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of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ight 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84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ivate capital flows expected to decline furth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408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iorating external environ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ivate credit growth has been to large extent funded by bank-led capital in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are facing slowdown of inflows and higher interest rates (Croatia’s CDS spread up by over 400 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of European banks dominating the region also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9880" y="2514600"/>
          <a:ext cx="5334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14600"/>
                    <a:ext cx="5334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wnward trends are beginning to emerge in most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statistics rais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fla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everal countries, in particular Croatia, Montenegro, 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 and tourism sectors may also be hit hard (no data available yet plus effects there come with a time la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29000" y="1752480"/>
          <a:ext cx="571500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71500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DP growth is projected to slow down in 2009 throughout SEE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719360"/>
          <a:ext cx="86868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9360"/>
                    <a:ext cx="8686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wb296747</cp:lastModifiedBy>
  <dcterms:modified xsi:type="dcterms:W3CDTF">2008-12-15T11:47:2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5763783</vt:r8>
  </property>
  <property fmtid="{D5CDD505-2E9C-101B-9397-08002B2CF9AE}" pid="3" name="_AuthorEmail">
    <vt:lpwstr>Ollivier.Bodin@ec.europa.eu</vt:lpwstr>
  </property>
  <property fmtid="{D5CDD505-2E9C-101B-9397-08002B2CF9AE}" pid="4" name="_AuthorEmailDisplayName">
    <vt:lpwstr>BODIN Ollivier (ELARG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</Properties>
</file>